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6B8-A1D9-4646-AAB0-0D66D6DD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AAF-4228-4F96-94E3-37235C07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3AC-BF8E-4178-84B8-5CE6C2C6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616-45E5-4ED3-89F0-1E286D5D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1A2-13D0-4676-B096-3FE2F2B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70A-FDE9-4CE1-9882-64997513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890-67DC-41FE-8B17-EB020163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427-CA6A-4347-B0A8-AB50B16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6C9-1C91-46E5-BF78-276A2F0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F38-80E4-4BA0-BD3C-BFAEBE5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2E2-D052-454E-AB23-8E1279F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1BE-3B62-4471-96AF-3641600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95E2-6061-44E8-B300-C84BF86E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1120" y="2666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erre Auguste Renoi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388584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1-19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noir_photo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2928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ougival" descr=""/>
          <p:cNvPicPr/>
          <p:nvPr/>
        </p:nvPicPr>
        <p:blipFill>
          <a:blip r:embed="rId1"/>
          <a:stretch/>
        </p:blipFill>
        <p:spPr>
          <a:xfrm>
            <a:off x="2409840" y="571680"/>
            <a:ext cx="432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noeist" descr=""/>
          <p:cNvPicPr/>
          <p:nvPr/>
        </p:nvPicPr>
        <p:blipFill>
          <a:blip r:embed="rId1"/>
          <a:stretch/>
        </p:blipFill>
        <p:spPr>
          <a:xfrm>
            <a:off x="1143000" y="558720"/>
            <a:ext cx="7010280" cy="586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9092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Canot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14600" y="541008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grandes baigneuses,1900 The Barnes Found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ady-piano" descr="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noir.charpentier" descr=""/>
          <p:cNvPicPr/>
          <p:nvPr/>
        </p:nvPicPr>
        <p:blipFill>
          <a:blip r:embed="rId1"/>
          <a:stretch/>
        </p:blipFill>
        <p:spPr>
          <a:xfrm>
            <a:off x="633240" y="262080"/>
            <a:ext cx="7875720" cy="633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19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dame Charpe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arisia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02120" cy="6019920"/>
          </a:xfrm>
          <a:prstGeom prst="rect">
            <a:avLst/>
          </a:prstGeom>
          <a:ln w="0">
            <a:noFill/>
          </a:ln>
        </p:spPr>
      </p:pic>
      <p:pic>
        <p:nvPicPr>
          <p:cNvPr id="84" name="swing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36716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6324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aris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Balanç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noir.promenade" descr=""/>
          <p:cNvPicPr/>
          <p:nvPr/>
        </p:nvPicPr>
        <p:blipFill>
          <a:blip r:embed="rId1"/>
          <a:stretch/>
        </p:blipFill>
        <p:spPr>
          <a:xfrm>
            <a:off x="2119320" y="304920"/>
            <a:ext cx="4905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noir-le-moulin-de-la-galette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5621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ulin de la G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noir-luncheon-of-the-boating-party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10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66880" y="6248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Déjeu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noir-madame-monet-lying-on-sofa" descr=""/>
          <p:cNvPicPr/>
          <p:nvPr/>
        </p:nvPicPr>
        <p:blipFill>
          <a:blip r:embed="rId1"/>
          <a:stretch/>
        </p:blipFill>
        <p:spPr>
          <a:xfrm>
            <a:off x="609480" y="514440"/>
            <a:ext cx="8305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rrace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386240" cy="5486400"/>
          </a:xfrm>
          <a:prstGeom prst="rect">
            <a:avLst/>
          </a:prstGeom>
          <a:ln w="0">
            <a:noFill/>
          </a:ln>
        </p:spPr>
      </p:pic>
      <p:pic>
        <p:nvPicPr>
          <p:cNvPr id="94" name="watercan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86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nnées de sa jeun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rre-Auguste Renoir est né à Limoges d’une famille ouvrière. Son père était tailleur et sa mère couturiè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travaillait dans l’usine de porcelaine quand il était je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vu son talent de dessin et il a été choisi de peintre la porcelaine la plus fine dans l’atelier Lev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029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orcelaine de Limo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imoges-tea-set-7" descr=""/>
          <p:cNvPicPr/>
          <p:nvPr/>
        </p:nvPicPr>
        <p:blipFill>
          <a:blip r:embed="rId1"/>
          <a:stretch/>
        </p:blipFill>
        <p:spPr>
          <a:xfrm>
            <a:off x="0" y="1371600"/>
            <a:ext cx="51055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noir-young-woman-wearing-a-hat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103640" cy="4915080"/>
          </a:xfrm>
          <a:prstGeom prst="rect">
            <a:avLst/>
          </a:prstGeom>
          <a:ln w="0">
            <a:noFill/>
          </a:ln>
        </p:spPr>
      </p:pic>
      <p:pic>
        <p:nvPicPr>
          <p:cNvPr id="96" name="renoir-young-girl-reading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384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noir-two-girls-at-the-pian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735440" cy="6400800"/>
          </a:xfrm>
          <a:prstGeom prst="rect">
            <a:avLst/>
          </a:prstGeom>
          <a:ln w="0">
            <a:noFill/>
          </a:ln>
        </p:spPr>
      </p:pic>
      <p:pic>
        <p:nvPicPr>
          <p:cNvPr id="98" name="renoir-young-woman-braiding-her-hair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79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 études d’art à Pa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8380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 beaucoup visité le Louvre pour étudier les chefs-d’oeuvres des grands artis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62 il a commencé ses études aux Beaux-Arts à Paris. Il a fait la connaissance de Sisley, Bazille, et Monet dans l’atelier de Glyre, un peintre sui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Grenouillère, 18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renouillere6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oir, l’impressionnis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0972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dant les années 60, quelquefois, il était si pauvre qu’il n’avait pas assez d’argent pour pein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oir a montré six peintures dans la première exposition des impressionnistes en 187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loge, 1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74la_log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74dancer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18493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danseuse, 1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famil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1890 Renoir s’est marié avec Aline Charig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ès son mariage, il a peint beaucoup de scènes avec sa femme et ses trois enf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noir.famille-artiste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alad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 1892, Renoir a commencé a souffrir d’arth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’est démanagé à Cagnes-sur-Mer dans le sud de la France, sur la côte Méditerranée, où il faisait plus cha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near-lake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595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stat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 fin de sa carrière il a peint avec le pinceau attaché à ses doigts paralysés avec les bandelet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commencé à faire les statues pendant cette période à cause de la difficulté de pei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tatue2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statue4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29973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m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oir est mort dans ce petit village en Provence en décembre de  1919 d’une congestion pulmon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laissé un legs de peintre, aquareliste, pastelliste et dessin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renoir-yvonne-and-jean" descr=""/>
          <p:cNvPicPr/>
          <p:nvPr/>
        </p:nvPicPr>
        <p:blipFill>
          <a:blip r:embed="rId1"/>
          <a:stretch/>
        </p:blipFill>
        <p:spPr>
          <a:xfrm>
            <a:off x="3886200" y="1309680"/>
            <a:ext cx="4762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ity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country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0068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6019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533412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6019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Campa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5:24:54Z</dcterms:created>
  <dc:creator>dsa'ljg'prg</dc:creator>
  <dc:description/>
  <dc:language>en-US</dc:language>
  <cp:lastModifiedBy>dsa'ljg'prg</cp:lastModifiedBy>
  <dcterms:modified xsi:type="dcterms:W3CDTF">2008-06-12T22:46:23Z</dcterms:modified>
  <cp:revision>28</cp:revision>
  <dc:subject/>
  <dc:title>Pierre Auguste Renoir </dc:title>
</cp:coreProperties>
</file>